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E7BFE-E741-41F8-92E8-8E93DBE7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E523A-D093-42B0-8EDB-07112131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7E6F-1F65-41E9-9523-1AC1085C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28C77-86B3-4891-96C9-4A88F3A4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8070-1C25-4279-B868-21885721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B0F8-0F2E-4744-9FC1-BDA8AC56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0CA8-DB12-4248-9839-4F5581F4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05BD-2603-444A-963B-41383392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1BF5-4693-4848-A640-179C0AA0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DEB6-D286-4500-8F53-B32CC35D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9EA9-C1A3-4E27-B778-21A82F4B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70EE1-C295-4935-978D-B5790C61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265E-E067-4775-AEB2-8A1E74C6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5977-1CFD-49CC-8EBC-7335A41E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8827-1335-4C7B-9E16-35E934C0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221F-0F52-4490-9E8D-B59346A9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7316-5BB0-4FA6-9B32-19F7E305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91B95-5AFF-4827-B31D-F79F46C6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F3983-9B6E-4AAA-BFC6-D981CE1C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DBD55-64C6-4729-98EF-7EC6C533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A8548-0C7B-4C11-83BC-595789C5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4592C-DB40-4BCA-A9A3-91DA49F7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92690-E278-4FA6-BCD7-0757EFEA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EADF-D6C3-4B7F-85FA-5EFAB356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B857-C473-434F-8249-A755F53F11A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C809-8B6B-4B8B-A5C7-9C3DD953E7D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83628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83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Тихо щом Исус ме викне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адо, при мен ела"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аз покана радост трепн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дка музика ми шепне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Мен ела, при Мен ел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адо, при Мен ела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956880"/>
            <a:ext cx="1008216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Бягай от греха измамни,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чадо, при Мен ела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Тез, що търсят помощта Ми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никога не връщам празни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Скоро ела, скоро ела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чадо, при Мен ела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868680"/>
            <a:ext cx="957744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й сега, в тез дни на младост, чадо, при Мен ел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сърце си, пълно с радос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лез в пътеката на святос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се бави, не се бав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адо, при Мен ела!"</a:t>
            </a:r>
            <a:r>
              <a:rPr b="0" lang="bg-BG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3-20T08:51:49Z</dcterms:modified>
  <cp:revision>194</cp:revision>
  <dc:subject/>
  <dc:title>Slide 1</dc:title>
</cp:coreProperties>
</file>